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A3E-6D77-4913-B7E6-4F936B1C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86A-785E-4EC0-863F-7CD5B63F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78C-0D2A-4CEA-B967-8D4B6D57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5D9-C098-4BC9-B6BD-B9E48AC1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2DC-018B-4E31-8807-BD76C085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9F4-6517-4D06-8722-C823775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001-D915-444F-B46A-758EC08D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21D-B624-4C6D-A1D1-E31EE7EE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CDA-2835-4B1B-BC52-E6F745C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9F1-8A15-46EF-AE07-961E093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B37-C6AD-4630-AFD1-56E964A0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0DA-9554-4309-9116-F971064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29AF-D1CC-4E77-9335-620F9E6A5C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CA08-AAB6-4A15-8533-CB92CF4E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716280"/>
            <a:ext cx="41036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ERMISOS E LICE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AEC-21B3-43DA-9F8B-D1318726DAC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B204D-7D52-456A-8A53-EADE0ED5F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98900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Un profesor pide un permiso polo falecemento dun sobriño que vivía en distinta localidade á do profesor. ¿A que permiso podería ter dere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ermisos e lic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28464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Un sobriño é un 3º grado de consanguinidade. Xa que logo non ten dereito a permiso por morte dun famil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07664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 Unha profesora solicita permiso para unha revisión médica que ten que facer mensualmente. ¿Que ten que xustificar? ¿A quen lle debe solicitar ese permi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157720"/>
            <a:ext cx="7921440" cy="9169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Debe pedir un permiso por revisión médica (artº 12 Orde 7-4-08). Debe xustificar a necesidade de realizalo dentro da xornada de traballo. Como ten un carácter periódico debe solicitarllo ao De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DBE-77A4-4FBB-A774-7E0FA12004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8771F-73DA-4F68-8538-3C9E1F35AF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98900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 Un profesor séntese indisposto e chama ao centro para comunicar que non pode asistir ao mesmo. ¿Que tipo de permiso se lle concede? ¿E se achega un xustificante méd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ermisos e lic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314172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que prevé o artº 27 da Orde 7-4-08): imprevistos, indisposicións e enfermidades leves. Ata 24 períodos lectivos anu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Se achega un xustificante a falta considérase como un permiso por revisións médicas (artº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437000"/>
            <a:ext cx="792144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 O artº 6º prevé a posibilidade de conceder permisos para exames finais ou parciais liberatorios. Tamén para probas definitivas de aptitude. ¿Tería dereito a ese permiso unha profesora que solicita para examinarse do carné de conduc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80536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Non tería dereito a permis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8ED-451E-470B-9C26-9CE48206E3C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FE601-E4A7-44DA-8D0A-670B1A62DE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98900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5. Un profesor inicia o permiso por paternidade o día 3 de agosto. O día 1 de setembro preséntase no centro coa intención de gozar das vacacións no mes de setembro. ¿Que farías como director/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ermisos e lic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141720"/>
            <a:ext cx="7921440" cy="9169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artº 17 prevé o permiso por paternidade por un período de 29 días. En consecuencia tería dereito a un período de vacacións ata o 29 de setemb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29264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6. Tres profesores/as do teu centro solicitan permiso para asistir a unha reunión preparatoria dentro do programa Comenius. ¿Que tipo de permiso se lle pode conce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44500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que prevé o artº 13 da orde 7-4-08: Deber inescu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896-DB1F-456F-9C87-F7DB5F25420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D6FB0-9F29-46F4-A4FF-6E96C1D51E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989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ermisos e lic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141720"/>
            <a:ext cx="7921440" cy="3762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860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653000"/>
            <a:ext cx="7921440" cy="3762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756-E6E2-4B1B-9150-A2B8A0C6E52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FCE30-9691-4278-AAF2-6A2F7E0244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-</cp:lastModifiedBy>
  <dcterms:modified xsi:type="dcterms:W3CDTF">2009-10-27T17:19:10Z</dcterms:modified>
  <cp:revision>14</cp:revision>
  <dc:subject/>
  <dc:title>PREGUNTAS E RESPOSTAS</dc:title>
</cp:coreProperties>
</file>